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CE1-15D1-4333-B5BB-4ADEE841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00E-9E91-40DF-B997-3CC9773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4FE-FF7E-40B4-93D1-B1504D2A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D39-8CD2-4F2D-9AC5-7C046C59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980A-EF37-4A57-8A70-70462837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7079-C3B2-44EE-B079-CA4B3DB8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CB42-ACFB-44E3-B01E-DC0343E3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65FB-D8D9-453A-97FA-CA28A1FD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46CB-EA01-496A-A047-B5C1A592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0E94-3631-49F0-A6EA-F2BBED53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14F1-A40B-4B8A-B533-EE27CF3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084-629B-4AED-9F15-9A7D24E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48AE-963C-4480-A55E-2B7CE0A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3034-C4E3-46A3-89B4-044B17A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E83-80CB-4BB6-8EB3-ABD0DDBC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0457-8570-4F85-B85F-D6F874E5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872F-9C2F-4157-AE58-4BDFAEFD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81F-30E9-498F-92EA-3D85AE3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210-E6B0-44F3-A6D9-ABA3DD83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1EE-F7FC-445C-89C1-B77C789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FE6-C2E1-4C7C-8CED-2872A42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7CF-6E38-4DC3-B06C-03B57E7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B9B-0422-4D23-A6AC-8C67720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D69-EA7D-4B38-9B18-FB48E8A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8F2-B967-4A66-B71C-D32AD1907ADF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268B-A7CB-4029-953B-3F376AC2C91E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EA0-3BCC-4F42-8789-413E14D4C3B1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34FA-EFC3-4B21-A141-FFAED572D552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56C2-1DF9-4BE9-AF62-F522AEB06A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AEF052C-B122-4665-B1F3-EEF1595F6F2D}" type="datetime3">
              <a:rPr lang="en-US"/>
              <a:t>July 31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97B-F409-42AC-AEF7-8D1CBDCDBF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3263F-06D2-40F5-B597-43B2128FD1C0}" type="datetime3">
              <a:rPr lang="en-US"/>
              <a:t>July 31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07C-62D8-4B77-96C6-AB046F79E4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002AD-2268-4589-9FE2-6AC0366CFCD1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686-D06F-4A34-9302-ED3DFBBB61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331B0-07E4-42A3-B094-EBE48833BC46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A41-1E1F-4DC7-8A25-9BE52C2D99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A594C-B8F9-44C4-A50B-40C0C4C40038}" type="datetime3">
              <a:rPr lang="en-US"/>
              <a:t>July 31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967-0BB5-4C65-94DB-4AF5C5E632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D072A-295A-4772-8D84-1BF572097EA7}" type="datetime3">
              <a:rPr lang="en-US"/>
              <a:t>July 31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D11-DD67-4D3D-8BD3-46793A6603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164BB-E501-4437-92AC-BBF278CA9026}" type="datetime3">
              <a:rPr lang="en-US"/>
              <a:t>July 31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D50-EB2C-46B9-A6DD-AE4ED165A61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EE224-3762-4AA7-A1AD-479C35FD8BAA}" type="datetime3">
              <a:rPr lang="en-US"/>
              <a:t>July 31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